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63E3-0048-41F1-B4CB-430DD85AA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lifetime-fitness.ca/pages/meet-our-trainers/trainer-tips--nutritiona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merthehammer.com/2010/12/04/understanding-ingredient-labels-todays-tip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unctionalfitmag.com/blog/2012/07/30/protein-foods-protein-powder-2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herdaily.com/health/892/the-effects-of-food-additives-and-preservative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nolarecipes.com/food-fact-or-fa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ofwindsor.com/index.php?title=File:Canada_Food_Guide_2012_side_0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odyscan.md/body_sca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to2.wordpress.com/2010/01/11/full-body-scanners-may-damage-human-dn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echgon.com/x-ray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upload.wikimedia.org/wikipedia/commons/d/da/Head_CT_sca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BA9-781E-413E-AB24-0BA19040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8F2-AEC7-4D03-A9A9-230F25B3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F6C-B547-46A2-B3B9-24358285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EE8-7094-4C19-9649-4F6E2298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9E8-631C-4178-AE91-498686AB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A52-8C40-4806-9FF9-091DFEDB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D26-9C36-4216-8540-73BF833D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8A1-AE23-41A5-ACDF-BF24A9ED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B92-F2FA-4604-B5CC-12473AB1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9F9-3856-4A31-B912-5484D650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1E2-727E-4C31-A6B3-7520E24C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2B7-5617-4394-9853-6B0E8585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1100-C3C9-4444-A0A0-C1DB72482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: Structure &amp;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energy do you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ing…4.1 kJ/kg/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ting…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ing…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mputer keyboard…9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ing 3.2 km/h…1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12.9 km/h…6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ble 1, page 3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ily used by living organisms as a source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sources are fruits &amp; vegetables and g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652840"/>
            <a:ext cx="3809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ga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62120" y="1981080"/>
            <a:ext cx="401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many different functions and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have the same basic structure: they are made of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amino acid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343400" y="2509920"/>
            <a:ext cx="449568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ids are used by animals as major energy-storage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important in cell membranes, some hormones, insulation  of organ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705200" y="1981080"/>
            <a:ext cx="369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body is made up of 55-60%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eeded for the cell cytoplasm, for chemical reactions, to digest food &amp; eliminate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drink about 2 litres of water a day (in addition to the water you get in foo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tamins &amp;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mins &amp; minerals are nutrients that are needed in very small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-soluble vitamins (A,D,E,K) vs. water-soluble 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such as calcium &amp; phophorus are important for your bones, iron is important in your bloo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da’s Food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43280" y="1981080"/>
            <a:ext cx="345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1427040"/>
            <a:ext cx="89154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Sc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95480" y="1981080"/>
            <a:ext cx="515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52520" y="609480"/>
            <a:ext cx="643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5400" y="609480"/>
            <a:ext cx="7693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9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ies Assignm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choos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chnique or technology that is used to ei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iagnose a disorder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reat a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preparing a 1-page summary on the technique/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Due on Monday, May 13, 2013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we need to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l of the chemical reactions that occur in y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rate depends on body size, physical activity, sex, age, hereditary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al metaboli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6:41:04Z</dcterms:created>
  <dc:creator>rubina khan</dc:creator>
  <dc:description/>
  <dc:language>en-US</dc:language>
  <cp:lastModifiedBy>rubina khan</cp:lastModifiedBy>
  <dcterms:modified xsi:type="dcterms:W3CDTF">2013-05-01T20:12:50Z</dcterms:modified>
  <cp:revision>29</cp:revision>
  <dc:subject/>
  <dc:title>PowerPoint Presentation</dc:title>
</cp:coreProperties>
</file>